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381-0E0D-4E72-AA3D-0FD7F360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4F0-CA24-4834-83CF-F02CCC2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D66-4236-4B18-9A8D-A72278EB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846-3BE1-4BE5-A9EE-59C332F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2B7-A4C2-4A0F-9A6A-F648E0A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0CF-2E05-46F1-9000-6A063C74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EBE-A4B7-4377-B86D-79FA113D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DEE-295D-4FD9-ACA1-9B5D68A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BDC-8580-489A-9A9F-5DEF5F3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632-BF94-4737-83C0-0A2A176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2A4-B362-40E1-AD83-B90D9B3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ABC-EDCD-4336-A060-C8998BC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8F35-1881-49C7-AC3C-1323BCFB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iled, step-by-step directions for conducting a science experiment (investigation) which allows du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xperimental Gr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ed to all conditions of the experiment except the experimental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one factor in an experiment that is determined and changed by the experimenter.   Usually graphed on the x-axis.  (Manipulated Variabl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Dependent Vari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factor measured or observed to obtain. Usually graphed on the y-axis.  (Responding Variabl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581280"/>
            <a:ext cx="671400" cy="533520"/>
          </a:xfrm>
          <a:prstGeom prst="rightArrow">
            <a:avLst>
              <a:gd name="adj1" fmla="val 50000"/>
              <a:gd name="adj2" fmla="val 314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581280"/>
            <a:ext cx="671400" cy="533520"/>
          </a:xfrm>
          <a:prstGeom prst="rightArrow">
            <a:avLst>
              <a:gd name="adj1" fmla="val 50000"/>
              <a:gd name="adj2" fmla="val 314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505320"/>
            <a:ext cx="671400" cy="533160"/>
          </a:xfrm>
          <a:prstGeom prst="rightArrow">
            <a:avLst>
              <a:gd name="adj1" fmla="val 50000"/>
              <a:gd name="adj2" fmla="val 314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11937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15238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162920" y="2590920"/>
            <a:ext cx="1981080" cy="197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257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transferred from one organism to another in a food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s. Ri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429000"/>
            <a:ext cx="3276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800" y="4456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257440" y="28951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514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14600" y="26668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5053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oa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733920"/>
            <a:ext cx="1523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3200040"/>
            <a:ext cx="5029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77840" y="3008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181480" y="2437920"/>
            <a:ext cx="9907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7800" y="2093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971800" y="2209680"/>
            <a:ext cx="1905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8640" y="1865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81080" y="22093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742840" y="2209320"/>
            <a:ext cx="33526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047760" y="2057040"/>
            <a:ext cx="4267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67640" y="3668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4800" y="3962520"/>
            <a:ext cx="2819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89548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209680"/>
            <a:ext cx="3886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co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=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e =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 Chain, Food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es (Climate, Rain, Tem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(Numb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ersity (Difference in Gro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3:21:03Z</dcterms:created>
  <dc:creator>Sterling Grade School</dc:creator>
  <dc:description/>
  <dc:language>en-US</dc:language>
  <cp:lastModifiedBy>Sterling Grade School</cp:lastModifiedBy>
  <dcterms:modified xsi:type="dcterms:W3CDTF">2010-04-21T21:28:59Z</dcterms:modified>
  <cp:revision>3</cp:revision>
  <dc:subject/>
  <dc:title>Experimental Procedure</dc:title>
</cp:coreProperties>
</file>